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0351-F0EF-4393-90A8-664E7EBA1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7AFA-9F7D-4D19-8A2D-4774A2190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BC47-C0A8-4F5E-9BCC-6C6A94EB2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7B2D-5173-45D0-8DA9-6280FA1D2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4DC3-5417-4BF9-9E63-47841ACA7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7413-59EF-4F08-8CF8-EFCE9C5D3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E4A5-A6FF-4124-8F21-008898BD7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A3DA-0C5D-453D-8F6E-EF503E4B0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3469-3446-438F-8054-53AE2A953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2099-C1A2-4CD6-ADA7-F3B49BC9B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E73C-62B4-4446-A8F2-2E4CB7DA8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711A-9197-4F9E-864A-3AA297EBF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.1-</a:t>
            </a:r>
            <a:fld id="{31BC4E11-1AA0-4491-A426-3D2E2FEE70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2560" y="1622520"/>
            <a:ext cx="78264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146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lauses describe a condition or event upon which another condition or event depends. Sentence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s consist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and a main (or result) cl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6560" y="1538280"/>
            <a:ext cx="1676520" cy="56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3689280"/>
            <a:ext cx="7315200" cy="198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7DE7-6871-40BE-8A8D-0FDE976594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s can speculate or hypothesize about a current event or condition. They express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 happ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vent or cond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re to occ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is called a contrary-to-fact situation. In such instances, the verb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 is in the past subjunctive while the verb in the main clause is in the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35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difference betwe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3986280"/>
            <a:ext cx="731520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D814-95AD-4DF6-B80C-358EF958A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s can also describe a contrary-to-fact situation in the past. They can express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uld have happe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n event or condi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d occu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n these sentences, the verb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is in the past perfect subjunctive while the verb in the main clause is in the conditional perf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4673520"/>
            <a:ext cx="731520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3873-1670-4F53-B742-FE79EF2CEB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s can also express conditions or events that are possible or likely to occu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instances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is in the present indicative while the main clau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present, near future, future, or command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42840" y="4292640"/>
            <a:ext cx="7315200" cy="18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3F46-6E4A-4757-BADF-D2403B9E7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expresses habitual past conditions or ev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ary-to-fact situation, the imperfect is used in both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 and the main (or result)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651120"/>
            <a:ext cx="7315200" cy="11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D5FA-5C82-4B92-92B9-146222EEE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04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use may be the first or second clause in a sentence. Note that a comma is used only when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use comes fir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2470320"/>
            <a:ext cx="6767640" cy="67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65360" y="3112920"/>
            <a:ext cx="5813280" cy="33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C7B0-4F53-421A-AD0D-8FE67D936D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0280" y="1500120"/>
            <a:ext cx="243828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541440" y="2195640"/>
          <a:ext cx="8061120" cy="4114800"/>
        </p:xfrm>
        <a:graphic>
          <a:graphicData uri="http://schemas.openxmlformats.org/drawingml/2006/table">
            <a:tbl>
              <a:tblPr/>
              <a:tblGrid>
                <a:gridCol w="8061120"/>
              </a:tblGrid>
              <a:tr h="12196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 los tiempos y modos de los verbos que aparecen entre paréntesis para practicar todos los tipos de oraciones con si que se muestran en la tabla anterior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90412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usted va _____ (ir) a la playa, tenga cuidado con el s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tú _____ (querer), te preparo la meriend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_____ (hacer) buen tiempo, voy a ir al parqu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mis amigos _____ (ir) de viaje, sacaban muchas fot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ella me _____ (llamar), yo la invitaría a la fiest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sotros _____ (querer) ir al teatro, compraríamos lo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etos a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06440" indent="-40644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tú _____ (levantarse) temprano, desayunarías antes de ir a cla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392200" y="3505320"/>
            <a:ext cx="494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ff"/>
                </a:solidFill>
                <a:latin typeface="Comic Sans MS"/>
              </a:rPr>
              <a:t>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59B0-098D-41A2-A89C-0DC9CFDB73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0280" y="1500120"/>
            <a:ext cx="243828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41440" y="2195640"/>
          <a:ext cx="8061120" cy="3840120"/>
        </p:xfrm>
        <a:graphic>
          <a:graphicData uri="http://schemas.openxmlformats.org/drawingml/2006/table">
            <a:tbl>
              <a:tblPr/>
              <a:tblGrid>
                <a:gridCol w="8061120"/>
              </a:tblGrid>
              <a:tr h="121968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 los tiempos y modos de los verbos que aparecen entre paréntesis para practicar todos los tipos de oraciones con si que se muestran en la tabla anterior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on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2620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ellos _____ (tener) tiempo, te llamarí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yo _____ (ser) astronauta, habría ido a la Lu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él _____ (ganar) un millón de dólares, habría comprado una mansió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ustedes me _____ (decir) la verdad, no habríamos tenido este problem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r" pos="782316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ellos _____ (trabajar) más, habrían tenido más éxit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FA51-1BD6-4AC0-9DE4-9927113AE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ason Miranda</cp:lastModifiedBy>
  <dcterms:modified xsi:type="dcterms:W3CDTF">2007-03-30T14:49:25Z</dcterms:modified>
  <cp:revision>83</cp:revision>
  <dc:subject/>
  <dc:title>PowerPoint Presentation</dc:title>
</cp:coreProperties>
</file>